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08777"/>
        <c:axId val="61779775"/>
      </c:barChart>
      <c:catAx>
        <c:axId val="99408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79775"/>
        <c:crosses val="autoZero"/>
        <c:auto val="1"/>
        <c:lblAlgn val="ctr"/>
        <c:lblOffset val="100"/>
        <c:noMultiLvlLbl val="0"/>
      </c:catAx>
      <c:valAx>
        <c:axId val="61779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08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6D28-8826-4027-960B-1B8F5B63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871-D861-4BFD-9494-5612A725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8E4-372C-41EE-B2C5-CD252BC6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57B-A4AB-4D5C-80A2-EEFEDCC0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5D8-0988-4C7C-B617-634D2838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37C-0A31-4018-8FBD-2DBD5F99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1F9-1947-4053-909E-EEF14273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619-413B-490C-8E00-2B1530F2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363-47DC-4A5B-BF3E-E6C0AF5D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9DB-781E-403F-8603-22FA1913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DA4-289F-4C20-998E-E97FE82D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634-7874-4F8C-B714-C4201E06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C08DF-E312-4B04-8EA7-5EAFAD0F2C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