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82943"/>
        <c:axId val="57981204"/>
      </c:barChart>
      <c:catAx>
        <c:axId val="30582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1204"/>
        <c:crosses val="autoZero"/>
        <c:auto val="1"/>
        <c:lblAlgn val="ctr"/>
        <c:lblOffset val="100"/>
        <c:noMultiLvlLbl val="0"/>
      </c:catAx>
      <c:valAx>
        <c:axId val="57981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82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5CB-1906-47DF-A63A-4099C542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94C-6D19-4B05-A4BE-36CF54C6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A8F-EB8E-4C01-9C19-278F02B0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7B8-2E7F-492A-958E-06EAC53D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606-5764-43DB-B434-0FBCD01F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791-5501-4593-BFCB-68099F6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EEC-9FC7-4EEC-9DB9-67F254A0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40F-11A4-4EFE-B669-828AEC1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D47-139C-4F2D-9524-02343BAC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07D-0A94-4E1F-BCA6-50BE2907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CA9-CF24-4E16-9DB7-74B1D30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922-CCE6-4E38-8FA6-7D3FD3E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43F5-1657-449E-8946-758FCD9E4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