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843730"/>
        <c:axId val="3233394"/>
      </c:barChart>
      <c:catAx>
        <c:axId val="498437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33394"/>
        <c:crosses val="autoZero"/>
        <c:auto val="1"/>
        <c:lblAlgn val="ctr"/>
        <c:lblOffset val="100"/>
        <c:noMultiLvlLbl val="0"/>
      </c:catAx>
      <c:valAx>
        <c:axId val="32333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437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5407-15C8-4FB1-B7A5-CDE0F1CFA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0D81-6CAA-4B7F-91EC-B3BBEF15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DDC8-160F-40E5-BE36-18DA48802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DA3F-F01D-4C55-B2F9-D47C08989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5187-86A8-41AD-A6A2-970145EE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EF4E-1405-472F-AEF3-84B96C12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6CC6-4DCE-402A-9810-EB03F824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ACEE-52D2-47D3-96EB-732771A3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6C28-AAF8-4833-8A4B-BA7721F0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02A4-47DC-49A8-B16A-A127E78C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ED34-7B09-4063-9726-DD988B36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63C3-D3E1-4C5A-9A36-368409F3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17AA8-57AC-414E-9FB1-0B3136AACD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