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032063"/>
        <c:axId val="10897037"/>
      </c:barChart>
      <c:catAx>
        <c:axId val="440320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897037"/>
        <c:crosses val="autoZero"/>
        <c:auto val="1"/>
        <c:lblAlgn val="ctr"/>
        <c:lblOffset val="100"/>
        <c:noMultiLvlLbl val="0"/>
      </c:catAx>
      <c:valAx>
        <c:axId val="108970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0320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4D7F-A38E-4532-A800-7D8595EC5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7272-8F3A-4C50-AC03-4F1ED0102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2C6B-618B-42A3-9839-176583D2A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309E-65C6-4958-8705-AC64D40DC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0977-A997-49E0-B4AE-8BBC825F0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3AAB-B53D-45DA-B777-C45FAE11F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BD2D-F564-4E67-A6AF-5370C7771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782E-7A6F-4E5B-B8AD-39F72C1FA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33BF-285A-442F-877E-0F08BA8B5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1BC6-572F-4DFA-88AE-4CC9A857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2F42-4E55-4002-BE08-1CC3436AB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2C73-5E70-4A1B-AF3B-7CED753AC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8EB8D2-682A-41F5-BB95-79F84F0C08C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