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7225370-4F07-4112-B253-3E2DA361FECC}"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D9B900C-29B7-4947-9DEA-177A11C1064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A936464-97AF-4BAA-BD4E-8DD214AF07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AC82B6-B2EF-4C66-9E9D-3E3F9624FC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FF67CF9-B564-49D7-8300-BC43C64EC8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0EF399E-D813-4D6E-AA8A-3089AA1A83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8A40DD6-68B3-4EAA-98FB-5BAD1772A5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AD1D902-8BB8-4D5A-8196-08CC9179F08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D7F45A4-0F4E-4C44-8448-306BA11A0DF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DB241A3-0A7B-4787-8205-E0B08D287B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8FE1D29-03AA-4F6D-9C7E-AB7E0613AC4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2148A5B-4A6A-4F23-B482-DAE624CE8FC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5E7D063-6D84-4E72-89C4-5A6635C96D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C9B1C51-B9A1-431C-BAF8-52DA0504A1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4858DA4-5E4F-4AC7-9865-F0F60C95633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F2407E9-A36F-407A-A14A-3271C1373A1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818B3BE-1F2E-4D62-A2FB-36D529AC060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B68E9A8-8978-43AE-881D-03E0EA2A173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FF295D1-8F9D-4032-BCD5-6612D47713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8AD309-AB56-434B-B619-21F96F2AEC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35A29B-024E-489A-9F6B-1375649A5C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1A4EE56-25D5-4A6C-8E37-27ACEF429F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0828F8-50D1-4D28-A1A0-2A197D1428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EC32DA-525B-493C-A4F3-237F1A959B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8B3D5B-F41A-4C4F-95C5-74CBF63E0E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D7D309-00D3-400E-A0A3-AD661408C2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39C72-C9FF-4D8B-BFFB-63C1648CE8B8}"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42B0B-753F-44C1-B230-ACD67C6D84C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BE42EEA-0663-4959-9A9C-F8FF609BDD0E}"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C3A095-DE2B-4D95-B070-D7CB37609261}"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693EA5D-8E43-49A4-BE2B-7FE2F113103F}"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A3019E1-5C90-448F-A1BD-831B60510A24}"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3FDD7FE-B824-4CC8-AE8F-DEE04EF50F47}"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FEE9D7-5FE3-4FCC-9C94-0EF23557E933}"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8E844DD-B505-44DD-BBDE-D0B9B430ED2E}"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E5C286-F477-48D1-BB2A-F5F0815BD753}"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1FC135-A477-41E7-9D3C-36286A130D53}"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F03D625-46CF-490C-880B-080DEBDC7EBC}"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38FCA64-DB4F-474A-8F6F-408AA1610FF0}"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4C0C05B-6767-4C72-9BF2-AA45ED73083C}"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F0FC9E-5D9F-4826-B1D7-F31CA0FB2E0F}"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AC72898-1F4D-4C95-9535-D518C766C6B1}"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6B519CE-E32D-4A33-85F2-BE97CC73E1F1}"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5D2200-904D-446F-A89A-7730C89F6F3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6DD90A0-8AC2-45E1-B55A-3365AE018DB5}"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D1C68B7-FD2A-4864-9F75-DB4C145AF4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894A91FD-6B00-43B3-A7BE-C2EFB9BFDE19}"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78A9355-2576-4815-A969-F70AFA80FF96}"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EE8616E-A761-4CC6-820A-56F635EC90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CF58358-D3C1-4FAB-8AD5-2965E315B0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2339F8C-69BE-43A1-84AC-C896CD978FFA}"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0699C6C-7543-4FD5-8D57-FCB28D5A35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B22BEE-2732-467C-8A67-DCFD1B994C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0BBC0F-CE28-457D-8F77-52397ED69A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4F45003-27F6-4CFC-A8B7-F544D5EB234B}"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A5977E7-6EA4-4CF2-857E-9D4F481572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BB10AA5-C684-430A-BC11-47BE51F224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B916DF-9980-4A29-B0A6-C5A93543CF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081957-7DB2-4E55-A4CF-DA277973847D}"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C39C716-40D6-4B78-9EE3-7879AD4404F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DD5E0FD-5B73-4116-9F9D-CA9A129D2A8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23BC7DC-3EAF-472F-9C0C-62B3CE95500E}"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A47D40E-9C29-4376-AF45-0970D1D67E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FBFD80F-DB29-45D6-A368-48E378D26C4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A24D2B5-3401-4137-8B41-B506235F637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F949045-AC40-41B7-A3EC-87C239DCDE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C23701B-FB98-4882-9FBB-0A9F9247230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FE9CBEE-1FDA-43D9-9B87-0948F55AEB4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637E7B-F1CF-4E94-9854-72C455E595F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A1ADE12-B5AC-4211-B224-34E70B65709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1F26ED8-6F0A-4DA8-933C-8209DC89F7D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D25C5D7-9318-4CA4-ACC0-DD2803B4D65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015A653-D6D4-48EF-98F7-2DA21F77D22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8838A9-A52C-4489-BAA0-ABBD70ED715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F75D056-4388-4E68-A4B4-9A8996BCE4F9}"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E60546-4F5B-40D3-B84E-710480E7D48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F7652B0-ED8E-4B34-A08E-4AD56C574DF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FA3C779-CD9D-414E-9A5E-08DC8349BD1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4684F55-89AD-414E-B533-F81F144F2A6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1998871-1154-473B-85C7-E815745CA26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30F4921-3380-4E77-A360-8BBDABAED65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84F0E94-C7A0-471C-8231-601FDE3A10A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BD4E840-85F8-416D-A0DF-CF0AF9614081}"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7B5B323-BDE8-4F60-917B-CE4AF13342CB}"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7BB399E-32A8-4281-9E9C-3AD9A48193DC}"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D7BC3B1-28F6-4DA7-A466-3870F6F0E7B9}"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93C243-2B8F-454A-BDEE-7306032E95D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73D4B49-ACC1-4A7A-A368-E946064E40CF}"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276DBBD-9081-477E-8F4A-F74881FE022D}"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3DB2D5D-2C57-433B-986D-0503D6600C87}"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D239A11-EF3F-4F4D-8D9F-7229D152CB8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766AF3-46F8-4270-8447-2F49B7936F0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CA9E671-A51A-469E-892A-256631569AD6}"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1633FF6-F607-4B8E-B4B5-1F9FD76DDE02}"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B35B337-CF4B-4D50-B43D-20C2F4F81EEA}"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99A6E0-E48F-4AE9-A2FA-AFB402801619}"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65D6CA1-F721-4A21-92E7-CBC5BB4AFB6A}"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4E5BD8-47E2-40E3-8D8A-6EB9C55B8EFA}"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9DDD84D-3FDF-4621-A7F3-3FFCEF4CFD18}"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5E496EB-6B62-4438-BDC0-BFB30F1CCFB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FE480A-5E82-4990-8BE2-9A68F3D0CF8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78B7232-7993-4BA2-A950-A358387F16F4}"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B2340C1-D1B6-4B7E-8401-456187348FBE}"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4CD7D45-6E03-4405-A667-F1CCC5715712}"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7C70C42-CACF-4BAC-BFD4-A696DD45720E}"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AD418F7-1CF2-4682-83A5-21BB15968701}"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B41A791-7E33-4765-A701-0A0750CFCC26}"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D4F5B03-2458-495F-A99D-1E37C23A603B}"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60BD493-EEA3-46D1-92E8-501880ABDE9C}"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F6305B-CC48-4E30-8074-3CD9AF91D729}"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CFF9420-6A11-4882-B1BF-31F8E13DDDF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C460A74-91B6-4781-9C5C-C3992465B1F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75467E5-ECC3-42F3-B95C-BEB13DF958E1}"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AE636FF-F192-4909-9C12-0E8F2A24831E}"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872FA1D-C44F-46B0-A259-1ECFDD03A4E0}"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739C37F-0CFC-4644-B99E-A7F7C080567F}"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DA34C2B-AEB6-4EF4-B2FB-87AC9AAE2F42}"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61E7028-DD28-44ED-A999-2DE48FEF32FC}"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A5EFE8-5B12-4E2C-9802-F4488D54A580}"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67D413D-678C-43C6-8029-B99BE0028CEA}"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140466F-54DE-4372-94A1-82768C347AAE}"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884B568-1F27-403C-8DA7-A0DB4F13D396}"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10B56F20-FE7A-45C9-B8BC-812142573B21}"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1665C6F-DA6C-45B2-8B62-F3C41AADDBCE}"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967340-086C-4DD4-87F8-4EEDDD3FE6CF}"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45A4DE3-1899-49BA-AC18-589B25444370}"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11C7F3B-DAE0-4D91-BC4A-033032A8CF82}"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A7532E2-E927-4B6C-9D46-1C0210BF1EF2}"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2A943A7-B2EF-4463-A304-C41F35A15E03}"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761CED-E7C8-4E79-B518-73B455289ED3}"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38380B-6232-4196-A959-CE3062AABE99}"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70437C1-9945-46B5-AA13-C55020AD1D9A}"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2B6177B-C933-4D1A-A728-E133386E0387}"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62138BC-E5D7-4BB7-BFBC-3FE368E30B35}"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A505D3A3-85B1-4857-A2DB-8F17630F2D46}"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CA12602-E815-4A85-BDF5-28CE1E9EAECF}"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AA53B74-D674-4141-B25F-13271490DCE9}"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84C2671-306D-4E17-912B-2BD631394EC3}"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C1E03F3-ED88-4B73-8C12-CC45C16B2F70}"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42B557-A8DC-4478-9BE5-598F8F7250D8}"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