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04466"/>
        <c:axId val="82863280"/>
      </c:barChart>
      <c:catAx>
        <c:axId val="41304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63280"/>
        <c:crosses val="autoZero"/>
        <c:auto val="1"/>
        <c:lblAlgn val="ctr"/>
        <c:lblOffset val="100"/>
        <c:noMultiLvlLbl val="0"/>
      </c:catAx>
      <c:valAx>
        <c:axId val="82863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04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424-9CC1-4D14-BD61-F65575CD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CEE-E032-45D3-A370-0B9793DB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FBF-1C85-4816-8C5D-B90B260E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B06-C1C8-4CC5-88FE-EBB0CD2B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D93-FFEB-426E-81DE-3734A5AB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345-8EDD-48A8-AC58-D516D519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304-D279-4B97-A97C-ED5899C5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300-AB3C-4B24-8910-862EFE17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E5D-4181-4406-A1AF-D35344A4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D4B-CB60-4E3F-8A7D-11DD22E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513-DF65-4EA3-A7F9-90E0380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3309-F791-495C-B31A-D28D086E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0B7F9-A094-44F1-97BC-DB6985F278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