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86814"/>
        <c:axId val="56829285"/>
      </c:barChart>
      <c:catAx>
        <c:axId val="45886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9285"/>
        <c:crosses val="autoZero"/>
        <c:auto val="1"/>
        <c:lblAlgn val="ctr"/>
        <c:lblOffset val="100"/>
        <c:noMultiLvlLbl val="0"/>
      </c:catAx>
      <c:valAx>
        <c:axId val="56829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6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741-BA74-41F0-A80E-2302AA2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39E-3AD1-4782-9C40-C1F060F5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699-6CC8-4352-B975-E378F0B8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873-61A6-4C24-93F7-BF778369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B89-D9CB-4D96-99F0-ED6782F1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A7D-75F1-4948-8A93-857883A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179-AD03-45F1-91F8-F002281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55A-79CA-4B31-8C85-E952896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7BF-76A0-4096-B350-E737BC6A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0F5-07A4-4883-B3BF-ABC94EC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650-8020-41E2-948E-1830F0F6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58E-7459-4B84-8653-05CDE7A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DEBCF-AA62-4BFA-802A-B296340E73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