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41300"/>
        <c:axId val="89191044"/>
      </c:barChart>
      <c:catAx>
        <c:axId val="75041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91044"/>
        <c:crosses val="autoZero"/>
        <c:auto val="1"/>
        <c:lblAlgn val="ctr"/>
        <c:lblOffset val="100"/>
        <c:noMultiLvlLbl val="0"/>
      </c:catAx>
      <c:valAx>
        <c:axId val="89191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41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4EF-9233-4C74-8528-93D50914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89A-D557-4D01-97A0-D62F9555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D84-BE1C-4E34-A834-1C583E50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117-07F0-4D89-8E88-4420B326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03D-053D-44CF-8551-7CB150A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AFC-2DF8-451E-810C-6293F343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4E6-417B-423B-912D-793027B4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A6E-4B88-45FC-8F06-77661A25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B29-BDAF-43EF-8513-B389A8DE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DB2-B5D3-411C-8FC2-BA755FBA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720-84AE-470F-826E-6D3A196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297-11A7-4116-B991-9080AC17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49A31-B556-433D-86DF-3B99125A8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