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54812"/>
        <c:axId val="51021745"/>
      </c:barChart>
      <c:catAx>
        <c:axId val="63154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21745"/>
        <c:crosses val="autoZero"/>
        <c:auto val="1"/>
        <c:lblAlgn val="ctr"/>
        <c:lblOffset val="100"/>
        <c:noMultiLvlLbl val="0"/>
      </c:catAx>
      <c:valAx>
        <c:axId val="51021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54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028-9AE1-4C7E-B6D0-330BFD57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B16-07D5-402E-94BF-EA7042A8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C20-DF96-41AC-AE73-1E26E02D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3BE-7BEC-4D6C-AD00-703312F9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730-9546-47A3-BC36-DD50B1DD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09B-FDC2-4183-8E77-F3F0B361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1D9-5128-4AF7-B7BF-91ABE60D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6A0-DFC1-40AE-A651-581483AF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AC6-08D0-4C64-9511-FDE45465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DF3-626D-4CCF-9FC3-DFDF593F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FE5-979D-4C37-8061-F4D2536A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5D0-EFBF-408E-B4D2-0BACA3DF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2CEE2-58E9-4499-A612-8987201245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