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837171"/>
        <c:axId val="81805673"/>
      </c:barChart>
      <c:catAx>
        <c:axId val="708371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05673"/>
        <c:crosses val="autoZero"/>
        <c:auto val="1"/>
        <c:lblAlgn val="ctr"/>
        <c:lblOffset val="100"/>
        <c:noMultiLvlLbl val="0"/>
      </c:catAx>
      <c:valAx>
        <c:axId val="81805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371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D00-B305-4197-905E-D82D8D48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779C-7B22-4739-9DF5-AC75679C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6948-70E0-441A-8F8A-48681848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3DE-B8F9-4E5D-8F33-E1F2C4A5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A7C-6696-447C-9AE0-2AC1AF25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7C3-6211-4973-8AB4-0665A980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846E-490F-4713-9A53-FFE87F7E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2F1-87C3-42E2-8F7D-461A77A4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F6E-CC61-4332-84FA-E1AC0A61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9A6-1A4E-4470-99A8-BAE9D470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DBA-9B4B-4B22-95C4-1C63EE6D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3B1C-F497-4948-8D85-DCE45CA7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BB095-5332-4D9A-AAB7-7D60A73550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