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70220"/>
        <c:axId val="98615725"/>
      </c:barChart>
      <c:catAx>
        <c:axId val="76270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15725"/>
        <c:crosses val="autoZero"/>
        <c:auto val="1"/>
        <c:lblAlgn val="ctr"/>
        <c:lblOffset val="100"/>
        <c:noMultiLvlLbl val="0"/>
      </c:catAx>
      <c:valAx>
        <c:axId val="98615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70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461-6B43-452C-9808-BDD8E166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0E2-4CB5-4D54-AFEB-7D0D1A42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64F-8C94-4CB9-B133-E7184B84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2FD-7F97-4844-90D9-45E2B181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335-A4F2-4A3A-8513-FE7C5B71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4E7-3BB7-4D85-9B7D-84A9C463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070-19E7-4C1E-B295-FCBC7377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764-4363-41BF-B7D3-78D4F7B6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245-F53A-40BA-A545-12CE0959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C8A-2BC4-40B5-AB8C-7565C4A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56C-1458-4204-8172-D4EABC03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89C-09CA-4D50-A055-C8E9D10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82C14-D19F-4860-B5BA-40D76E9E22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