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92169"/>
        <c:axId val="15322641"/>
      </c:barChart>
      <c:catAx>
        <c:axId val="69992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22641"/>
        <c:crosses val="autoZero"/>
        <c:auto val="1"/>
        <c:lblAlgn val="ctr"/>
        <c:lblOffset val="100"/>
        <c:noMultiLvlLbl val="0"/>
      </c:catAx>
      <c:valAx>
        <c:axId val="15322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2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78B-D4A7-4902-A50E-AE00F48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EB4-C297-4E24-8A8A-B156B6C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B58-091B-45EA-BB18-2F9EAA35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C1A-A6E5-4AC2-8300-D3C592A7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509-365D-4D84-8CCD-E48311A3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FDC-FA92-4DC1-9F91-B66FDA3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EC4-8FCE-44CF-B456-87C89F7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06B-6907-4AFA-8C33-1843BBE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1B9-7F38-4771-BA3A-06B84DA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088-9C98-45C3-9D1E-961F58C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599-2EC9-4A86-95C3-52D208E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BAB-A1BA-4BFF-BEB6-7874C5B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4286F-4A4B-4532-AEEC-70C7C83EC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