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616626"/>
        <c:axId val="22484330"/>
      </c:barChart>
      <c:catAx>
        <c:axId val="126166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484330"/>
        <c:crosses val="autoZero"/>
        <c:auto val="1"/>
        <c:lblAlgn val="ctr"/>
        <c:lblOffset val="100"/>
        <c:noMultiLvlLbl val="0"/>
      </c:catAx>
      <c:valAx>
        <c:axId val="224843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166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61F5-792D-4C1A-B6DA-8E8A1B715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3E4E-F8F8-4C92-B1F4-16DDB65B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05C7-B383-4521-9319-4BAFB594E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5DA0-95DD-45EA-B3F3-309F5AFDF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7391-8347-4AE9-8103-EBD4D5B8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1E1A-A71C-4DE7-A7FD-9F53C4C7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E453-264E-49E9-955F-477EF137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B85E-38F9-41F0-BBED-C6912DBD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691F-A1DC-4D2B-86DF-0D65DF1D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9207-AADA-4352-AF5D-8B212A8A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A32C-BEF0-40A2-9CBA-3AB7317B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BF50-DA1B-44CD-8963-9EEC1EC9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234E5-07EC-48C0-9361-824E4833C8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