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97935"/>
        <c:axId val="61915988"/>
      </c:barChart>
      <c:catAx>
        <c:axId val="321979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15988"/>
        <c:crosses val="autoZero"/>
        <c:auto val="1"/>
        <c:lblAlgn val="ctr"/>
        <c:lblOffset val="100"/>
        <c:noMultiLvlLbl val="0"/>
      </c:catAx>
      <c:valAx>
        <c:axId val="61915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979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BC18-2520-4114-91DA-8F1D41B2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013-8C50-422F-B624-8E166E89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50F-D61A-4A63-85BE-01670C37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7E9-0C98-439C-824D-8C500103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4D8-2D05-4E41-9166-4E92A30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C5F-BDFE-46A8-9C41-D7E04A6E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69D-7C36-4B7A-B595-B8C45EFA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C63-E2BB-41FD-A696-4412DC43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7EC-D0AF-49F5-B9D3-2A21DC30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EAE-B466-4640-A465-FF62863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452-D8F3-4200-9B48-273EDA6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FB8-8737-4FB6-B7E7-B230FCC2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32344-00CD-44A7-8A37-7FB12A5FC3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