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120003"/>
        <c:axId val="29791516"/>
      </c:barChart>
      <c:catAx>
        <c:axId val="201200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91516"/>
        <c:crosses val="autoZero"/>
        <c:auto val="1"/>
        <c:lblAlgn val="ctr"/>
        <c:lblOffset val="100"/>
        <c:noMultiLvlLbl val="0"/>
      </c:catAx>
      <c:valAx>
        <c:axId val="297915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200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4048-523A-4261-A7B2-E3861879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BBFC-3286-42A0-BDBE-2F266130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2F47-5818-4143-A1DD-0A486E2B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0AD2-1EA2-4AFD-890D-74F2759F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BBD2-92E5-4E8F-BFB5-2822DD04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A48F-CEFC-4231-A907-02899FA4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9E32-3ED8-4752-ABAE-77DAD864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8158-2E0D-4672-A2C2-18AD2AB9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A522-731C-460E-9322-50FA4FE7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480B-125F-4EFE-A7DE-1875FD78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5380-6281-4FC9-A79B-356032B7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F2FA-2E7D-4A4C-9470-633971DA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510AA-53B9-421B-A4B5-F7DDA3FC14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