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71657"/>
        <c:axId val="43081537"/>
      </c:barChart>
      <c:catAx>
        <c:axId val="18971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81537"/>
        <c:crosses val="autoZero"/>
        <c:auto val="1"/>
        <c:lblAlgn val="ctr"/>
        <c:lblOffset val="100"/>
        <c:noMultiLvlLbl val="0"/>
      </c:catAx>
      <c:valAx>
        <c:axId val="43081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71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30A-1AAC-4B23-B125-A672F0EC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ECB-580F-4BD7-BB40-6854728A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52E-A213-4DC6-9EA1-34407035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E4A-59EF-4235-8486-450EAFB1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598-84EB-4DE7-8E3C-9950532D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B5D-E55E-4178-B102-4405DD45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7FA-372E-4400-9921-F691E05D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ED3-379A-44F9-9D36-15E1E966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5D7-598D-442A-B059-2F1F084D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56F-529B-41C9-A026-169A4FD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CB8-3A1D-440C-BFA3-CE94FBCD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980-DD1A-43D5-BD8F-A206E9C7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236C5-E76A-4D99-9C62-CAEBBABFA8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