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312492"/>
        <c:axId val="61593214"/>
      </c:barChart>
      <c:catAx>
        <c:axId val="1731249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593214"/>
        <c:crosses val="autoZero"/>
        <c:auto val="1"/>
        <c:lblAlgn val="ctr"/>
        <c:lblOffset val="100"/>
        <c:noMultiLvlLbl val="0"/>
      </c:catAx>
      <c:valAx>
        <c:axId val="615932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31249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7C9B1-17D5-4A03-B0BC-1A4115825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D17E-6EC4-4593-923D-899B66A93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3C8A-C102-4924-85FD-A1E1EFA7F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DB409-6025-40CD-AABD-EDB09FD61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8F29-0CDD-4EB5-8DBE-0774390DE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6C85-1C5A-41D8-A123-2220D31A2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CDB2-B4C6-48DF-B06D-A9976C1C4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8AAD-3837-4BDE-89C2-1E9A90AF7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DD9A3-2205-46A2-872D-F817445CB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B348-AAB1-4418-8158-29C45397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0BDB-085E-4221-BC29-213854617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7EFC-28C7-4A40-BD67-ED98D176A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DDB3AB-83E7-4386-814C-B7E92D5D187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