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3F4505-359B-4A4C-89D3-335CB9FFF0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845D49-D4A8-40B4-8B8B-3137F408CD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35B040-46EE-4DDE-BBFA-7D5FAE7333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247AA-7D11-42D6-8C80-CFF08201CCD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6D25C5-3F84-4DBA-9EF1-A97225E3B63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579717-9513-460C-9609-7666E5FC30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6567FB-D8E1-406C-8727-44F65AB557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E7205F-464A-4ABB-9248-66B50A946D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FBF6B8-610C-4B0E-939C-CF9AAE044F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8AC94B-3F34-46ED-83C5-C9C5E0397C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B145EB-7B43-4073-9AAB-E2311C054D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429B2D-C137-4518-8333-F389D0A320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FD443-EDBC-4B9A-936D-AC0F460132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905120" y="2041560"/>
            <a:ext cx="380880" cy="609120"/>
            <a:chOff x="1905120" y="20415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2000160" y="20415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095560" y="22154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95264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09556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05120" y="23461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3048120" y="188928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196524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689440" y="2041560"/>
            <a:ext cx="358920" cy="722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051520" y="2041560"/>
            <a:ext cx="358560" cy="722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419720" y="2346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62320" y="2346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8120" y="274176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15080" y="272736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24560" y="27147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051520" y="4175280"/>
            <a:ext cx="358560" cy="72216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1927080" y="4214880"/>
            <a:ext cx="381240" cy="609120"/>
            <a:chOff x="1927080" y="4214880"/>
            <a:chExt cx="381240" cy="609120"/>
          </a:xfrm>
        </p:grpSpPr>
        <p:sp>
          <p:nvSpPr>
            <p:cNvPr id="57" name=""/>
            <p:cNvSpPr/>
            <p:nvPr/>
          </p:nvSpPr>
          <p:spPr>
            <a:xfrm>
              <a:off x="2022480" y="421488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117520" y="438876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197424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1752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27080" y="451944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3070080" y="402264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409896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689440" y="417528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556080" y="47991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32320" y="4479840"/>
            <a:ext cx="59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49360" y="447984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73320" y="4875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7680" y="484812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37160" y="48513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56080" y="26654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0120" y="54756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86400" y="190512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6400" y="403848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34320" y="3355920"/>
            <a:ext cx="175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ore safely and at different lo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6248520" y="2743200"/>
            <a:ext cx="1434960" cy="6350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248520" y="3772080"/>
            <a:ext cx="1434960" cy="8762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35Z</dcterms:modified>
  <cp:revision>154</cp:revision>
  <dc:subject/>
  <dc:title>Slide 1</dc:title>
</cp:coreProperties>
</file>