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64640"/>
        <c:axId val="57197880"/>
      </c:barChart>
      <c:catAx>
        <c:axId val="41064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97880"/>
        <c:crosses val="autoZero"/>
        <c:auto val="1"/>
        <c:lblAlgn val="ctr"/>
        <c:lblOffset val="100"/>
        <c:noMultiLvlLbl val="0"/>
      </c:catAx>
      <c:valAx>
        <c:axId val="57197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64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FFB-9110-4D4C-BBF5-E129CBF2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469-7D25-45BF-9095-F2B8AB14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C3A-F39C-40CF-81C6-D125ADF6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8A6-EE0E-434D-8E12-1E4157C0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724-95AF-4937-8DBA-4A1E6144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7E4-0AA2-4B9B-BCDA-27CC289D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F70-B701-46F3-82E4-C5F55823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570C-615F-41AF-AF32-453914CC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3BF-0E24-4A4D-A912-272D8363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1E6-FD72-4C37-AA20-224D9356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550-D01D-4F42-AD6F-2BA90BC7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909-8029-411C-990D-B8F660B8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5E003-9D7C-4B5C-9629-086489BD6E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