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709903"/>
        <c:axId val="61821633"/>
      </c:barChart>
      <c:catAx>
        <c:axId val="387099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21633"/>
        <c:crosses val="autoZero"/>
        <c:auto val="1"/>
        <c:lblAlgn val="ctr"/>
        <c:lblOffset val="100"/>
        <c:noMultiLvlLbl val="0"/>
      </c:catAx>
      <c:valAx>
        <c:axId val="618216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099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8C87-8379-4167-B98D-BE9CC1C0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EA7B-20C2-4486-8332-0133D93E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52E4-07EE-4A60-90C3-85ED3A6D3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154D-AD69-41F1-A67C-A75E7152C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BB8A-2119-4D7C-9B4B-C60FA381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6730-A419-4A49-B2EB-47F892E2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3CDF-CC0F-4722-9A6D-42A3F4E2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C713-6C6A-46D2-B7A2-2B8E791A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1A02-1F91-4142-B8A1-A3B4BF3A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4370-E37B-431B-A8BE-49FD1012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056B-72D8-4BD1-B93E-5C6A2257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856F-06BF-4486-9C36-EDA30C51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C17919-DD5A-4D69-AE19-03E36B1826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