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04287"/>
        <c:axId val="5368169"/>
      </c:barChart>
      <c:catAx>
        <c:axId val="25404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169"/>
        <c:crosses val="autoZero"/>
        <c:auto val="1"/>
        <c:lblAlgn val="ctr"/>
        <c:lblOffset val="100"/>
        <c:noMultiLvlLbl val="0"/>
      </c:catAx>
      <c:valAx>
        <c:axId val="5368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04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108-AE03-49BF-A0CC-C130EF24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76A-2E40-44F0-9ED3-46DBEBBA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0D1-E2C2-44BF-BF25-A2D167AC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292-9955-4C73-AF1B-528B680C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AAE-AF37-4107-994C-867CA40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148-BC2D-42F7-811B-E2CC563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1B8-DA3D-4104-AB4A-B4A21714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94E-8953-4D48-A85F-BDA5CAC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3AC-581E-4F7B-8CA7-D639152A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264-B9FE-45A6-A1E0-56B01EB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289-8539-40CB-8C99-C50392D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4D6-1E1E-4DE8-9BCC-AB6C27A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FC620-D98F-4F79-8A70-0BD1F7B6B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