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34009"/>
        <c:axId val="22766042"/>
      </c:barChart>
      <c:catAx>
        <c:axId val="16334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66042"/>
        <c:crosses val="autoZero"/>
        <c:auto val="1"/>
        <c:lblAlgn val="ctr"/>
        <c:lblOffset val="100"/>
        <c:noMultiLvlLbl val="0"/>
      </c:catAx>
      <c:valAx>
        <c:axId val="22766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34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034-839F-465C-B5A4-9974EBB7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8CA-DD21-4B70-86F5-B9559FA1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4E3-8CD1-4549-986F-7CE81A28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38F-AB89-4991-A97B-552F80FE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7BF-E3B0-4FAE-909C-D423359C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FE9-95B3-4329-9CDA-53A80986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D91-98E6-4D4E-9A5A-7B9529DB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871-AF63-485B-8592-6EA821A6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42C-D851-42E2-9A70-FBAA1D73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462-B555-44AF-8887-BC724FAD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622-5BDC-4C22-B02E-39A71338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0E8-0223-4E41-B60D-66D97F8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256F5-E8E0-4E7D-B2CF-4C5F936B2D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