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76432"/>
        <c:axId val="4185346"/>
      </c:barChart>
      <c:catAx>
        <c:axId val="935764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5346"/>
        <c:crosses val="autoZero"/>
        <c:auto val="1"/>
        <c:lblAlgn val="ctr"/>
        <c:lblOffset val="100"/>
        <c:noMultiLvlLbl val="0"/>
      </c:catAx>
      <c:valAx>
        <c:axId val="4185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764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FDA-E432-4B9B-ADBD-423B499C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957-B901-425B-8BE8-089E38AA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CBF-3A71-4548-8F0E-2E660622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1F8C-68AB-481F-A7C6-9EA3A1FF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B8C-4020-4303-BC3D-4A900EA2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BE6-2B5A-4AC5-8F71-E94E627E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8A3-C9E3-42CE-B632-31B79CE9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3C7-DE56-48BE-9030-185F3DD1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833-DAD5-44B3-98EE-2F85E7CA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3F11-D35A-428D-930F-4179D64E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9BB-6114-4987-8652-AE47A0C8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BA3-DDD0-4785-A9C5-401097B2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E850C-B753-41F8-BE00-5C96881554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