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65552"/>
        <c:axId val="77871571"/>
      </c:barChart>
      <c:catAx>
        <c:axId val="26365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71571"/>
        <c:crosses val="autoZero"/>
        <c:auto val="1"/>
        <c:lblAlgn val="ctr"/>
        <c:lblOffset val="100"/>
        <c:noMultiLvlLbl val="0"/>
      </c:catAx>
      <c:valAx>
        <c:axId val="77871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65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28F-8441-4A59-BC53-53518E0E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0B0-A234-4247-B5E1-FE404C41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84C-37FC-4DA6-852E-944A6B0D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D35-DDE3-48CB-9567-F6A5B968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8D8-8C44-4DC4-962C-2E74939E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D73-C2FE-4861-ABFF-0BCD7B14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58B-5CFE-4BC8-BAFC-3BEC23B6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1E5-FB13-4272-BCFF-61EFA56F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38D-ACDB-4392-84DF-782E4704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FC97-63F2-4E3A-8554-0235EA86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64C-5D39-44C1-B7D2-F2FF4E1A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BFA-9DFD-4976-8B4D-812D0C87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5A252-6098-4560-8998-1938045ADE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