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71763"/>
        <c:axId val="21496585"/>
      </c:barChart>
      <c:catAx>
        <c:axId val="27371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6585"/>
        <c:crosses val="autoZero"/>
        <c:auto val="1"/>
        <c:lblAlgn val="ctr"/>
        <c:lblOffset val="100"/>
        <c:noMultiLvlLbl val="0"/>
      </c:catAx>
      <c:valAx>
        <c:axId val="21496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1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C1E-ABA8-4BFC-A2BE-3972D8BF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86E-631E-4303-854C-3775305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9B2-C58C-4DEE-9627-77F39D05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87F-B157-405E-B9B5-91245505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FE1-3991-43E3-AABB-EB6650A7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4A7-4A4D-46CE-B4B3-7607E763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0D9-62DA-4AA0-ABA2-CDD945CA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C6D-5729-4538-99E8-7CE4C160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D5A-EF21-421E-B93B-723598E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C08-120A-46E2-98C7-89EBCA7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CD6-532C-487A-9F43-9085694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17A-F119-4D0D-A4CC-B94EA92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B6266-3B3B-42D4-8B3F-D59BDCAD3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