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17547"/>
        <c:axId val="1279905"/>
      </c:barChart>
      <c:catAx>
        <c:axId val="78517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9905"/>
        <c:crosses val="autoZero"/>
        <c:auto val="1"/>
        <c:lblAlgn val="ctr"/>
        <c:lblOffset val="100"/>
        <c:noMultiLvlLbl val="0"/>
      </c:catAx>
      <c:valAx>
        <c:axId val="1279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17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571-AE80-430F-A145-1D424001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49F-FC79-4F7A-902E-2A3D3F66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68A-DC47-42E1-AF31-82B61C10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E1B-DD2F-4D2F-BEAF-A64EEB86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F95-9ED4-44C3-970D-22F89C16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4D5-3419-492C-BE2B-97E4703C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778-FBBA-42F4-BB57-7AA031E9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D3D-5207-4D24-86ED-E7FCA2BA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73B-AAD3-4F3D-8005-28E1CA3D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6DB-883C-469A-B762-04685D57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995-E0D0-4F87-9A9C-D1D03B3E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55D-3638-4AD1-938D-48F5833E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C76B7-12CC-471B-8612-3F958BA9B3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