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92513"/>
        <c:axId val="80373892"/>
      </c:barChart>
      <c:catAx>
        <c:axId val="17692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73892"/>
        <c:crosses val="autoZero"/>
        <c:auto val="1"/>
        <c:lblAlgn val="ctr"/>
        <c:lblOffset val="100"/>
        <c:noMultiLvlLbl val="0"/>
      </c:catAx>
      <c:valAx>
        <c:axId val="80373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92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5B4-8808-40A5-BC67-FCAA8EBD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26D-1912-4DDB-8E0E-8A30C510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0BD-BC9F-494D-829C-F6DAF41B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2C1-8DD5-4B7A-A512-F52D4347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132-E833-4FEE-8612-AF2A7E9A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CB0-DF0A-47AF-BA08-1E3A62CC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9C3-F911-4BC9-B4AD-46BBAD32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6DA-C71D-4356-990D-8CB5D191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174-C1CF-4B87-99C3-3C2CBA17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313-AAF0-4EE0-905B-6EBD0490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44B-26DB-4116-9385-AEB9E995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E3C-5BB2-435F-89DA-F04BF07F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63470-172E-4D57-AEA3-045B0B2316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