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27189"/>
        <c:axId val="68031157"/>
      </c:barChart>
      <c:catAx>
        <c:axId val="18527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1157"/>
        <c:crosses val="autoZero"/>
        <c:auto val="1"/>
        <c:lblAlgn val="ctr"/>
        <c:lblOffset val="100"/>
        <c:noMultiLvlLbl val="0"/>
      </c:catAx>
      <c:valAx>
        <c:axId val="68031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7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F8E-C922-4399-8D96-DD3C4D35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85D-DDD2-4294-8FD5-885C0636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4EA-C2B2-429F-8E99-AE92494F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FB4-9B3B-44AC-890E-7338BEC6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95A-28B2-435A-9D90-65E8942D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359-E323-4541-8772-A17F2E5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891-6DE8-4733-9DF1-978F5FF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86D-33E4-4CD5-B91A-94DACB8F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986-263F-4024-98C6-02071D27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8D5-FF04-405E-871E-F8EF834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01F-2BF6-4BB9-9353-783857B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34F-0B65-484E-B659-69D82E4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46227-BD86-4216-BF05-26CAD56432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