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38873"/>
        <c:axId val="91717208"/>
      </c:barChart>
      <c:catAx>
        <c:axId val="41038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17208"/>
        <c:crosses val="autoZero"/>
        <c:auto val="1"/>
        <c:lblAlgn val="ctr"/>
        <c:lblOffset val="100"/>
        <c:noMultiLvlLbl val="0"/>
      </c:catAx>
      <c:valAx>
        <c:axId val="91717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38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1EC-9F28-448E-9E62-3B50729F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449-627B-4DC8-A779-397ABB8D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236-1457-431F-90B5-8A78C3F1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A00-E7FC-4CA1-A8CC-D2338FF9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46E-E785-43D8-A2AB-61D09F76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D1F-DE00-4F8A-9602-476D760B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42C-A9DF-4F50-8A20-60F19108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585-E4C2-4BD5-9D93-641FF238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644-888A-41D5-AD6F-BAC65CF7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3BE-FE76-45F5-8E3D-A56F58C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1BF-427B-43CF-AF3C-7F510961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2CB-28C7-43E5-A18E-76D4CCBB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74714-6E51-4D84-8A3B-C5846FDAC1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