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20686"/>
        <c:axId val="58783480"/>
      </c:barChart>
      <c:catAx>
        <c:axId val="16420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3480"/>
        <c:crosses val="autoZero"/>
        <c:auto val="1"/>
        <c:lblAlgn val="ctr"/>
        <c:lblOffset val="100"/>
        <c:noMultiLvlLbl val="0"/>
      </c:catAx>
      <c:valAx>
        <c:axId val="58783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0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74F-8A92-40A0-9F6D-D4CAC29E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F78-27CA-438A-9C82-26B868D1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964-C99A-4D65-9CC4-55CFF2B0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743-5AF1-4928-8DED-211783B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3BE-0572-42FD-9455-917A74A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B2C-0B68-4F15-B220-AA5EA5E7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623-9950-433E-BD7F-559B22D4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DBB-FE17-4A02-BDA7-25FDAB6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4A6-B3AC-46AC-B11E-24B6402F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4A7-8B69-4ED6-8B4B-7E6E416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B8C-51E4-42A3-AD17-C5C1091E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819-AC1B-400C-B7FA-0F95879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E453A-1C92-43DB-9382-EF1FAEA12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