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76894"/>
        <c:axId val="11330987"/>
      </c:barChart>
      <c:catAx>
        <c:axId val="99676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30987"/>
        <c:crosses val="autoZero"/>
        <c:auto val="1"/>
        <c:lblAlgn val="ctr"/>
        <c:lblOffset val="100"/>
        <c:noMultiLvlLbl val="0"/>
      </c:catAx>
      <c:valAx>
        <c:axId val="11330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76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694-BDD1-4C8B-80FD-594D9B94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3BD-3202-42DC-8CA9-BF1A951C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DBB-6FFC-4EEF-B216-69C8698C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17E-8AFE-4D5D-AD8D-3700E42C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ADE-CA52-4FA7-A964-5DBFDCC7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E89-B492-4DAF-958D-68302111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6E7-2116-4A07-9204-1CBA2045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04B-90AC-4D82-83EE-03EE9AB9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671-BAFB-432C-B8F5-CD769BE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1D4-618D-4556-B79A-111C6B69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6B1-D631-45E1-BAB6-23601E77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35B-206A-4904-B8DB-FEE08DD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B1F40-F0D2-4AFD-BBB0-5CC248B6D3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