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51006"/>
        <c:axId val="3080055"/>
      </c:barChart>
      <c:catAx>
        <c:axId val="72151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055"/>
        <c:crosses val="autoZero"/>
        <c:auto val="1"/>
        <c:lblAlgn val="ctr"/>
        <c:lblOffset val="100"/>
        <c:noMultiLvlLbl val="0"/>
      </c:catAx>
      <c:valAx>
        <c:axId val="3080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51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0CD-E9E6-497D-A7DD-199FB628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182-6990-423F-814D-EFB8589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2A0-1177-4F57-B430-847906E9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909-2E77-41E8-83F4-9D337C54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1E9-5F00-4E36-B1D1-2C5FF152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D97-A51E-4982-B71A-4526567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8B2-222C-4559-9FBE-50A0ACC1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A55-1416-4BD2-9348-DF85CAE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F9A-102E-4DF4-A398-C6DC2558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B36-12A9-4174-81C5-43AE0AC4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553-D421-478E-891E-BBB55A0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D23-1FBA-4DE3-82B7-14EEB0E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F0B3B-06B5-4BD9-BBEB-147BEFED05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