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0515"/>
        <c:axId val="64249808"/>
      </c:barChart>
      <c:catAx>
        <c:axId val="4150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49808"/>
        <c:crosses val="autoZero"/>
        <c:auto val="1"/>
        <c:lblAlgn val="ctr"/>
        <c:lblOffset val="100"/>
        <c:noMultiLvlLbl val="0"/>
      </c:catAx>
      <c:valAx>
        <c:axId val="64249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0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46F-4CCB-458F-96A4-60F7484F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5D4-6C1E-46E7-A39B-32D2D7EE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BB5-63E9-43C1-B9C3-9AD53678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2A8-5195-436B-9580-8F9E3E42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860-3B5C-4C22-9E84-FEE02D15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D1C-6C64-41E7-907A-1CE3BFAA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116-07DA-4DE6-9677-24541CA1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42B-02EF-424F-94B1-DC7D7118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1C6-2258-42F9-AEEA-663AF3DA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BB2-EA0E-4804-8491-598F05F5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BFE-1B51-4A47-901F-529789B0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4927-B093-40FA-A9AF-06AA59E3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CD141-6DB9-47AB-8C43-A830D06949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