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70421"/>
        <c:axId val="18935649"/>
      </c:barChart>
      <c:catAx>
        <c:axId val="96370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35649"/>
        <c:crosses val="autoZero"/>
        <c:auto val="1"/>
        <c:lblAlgn val="ctr"/>
        <c:lblOffset val="100"/>
        <c:noMultiLvlLbl val="0"/>
      </c:catAx>
      <c:valAx>
        <c:axId val="18935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70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0B9-6B86-40D1-85A5-CDEEA96C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BCE-B3D3-4A01-B55D-016D8027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E96-C79F-420A-AADD-B2BCD2F8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525-0465-4E25-8532-2CDE0027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194-DFC4-45BF-8280-5E30D39D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338-4BF9-4E63-90A9-504018C9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8FC-59B0-4496-8D4C-77BE7D7E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7A5-A078-46A8-BFB0-CE11D175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75E-D677-4E8C-8AA9-BF742E31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278-214C-4D81-8781-A26ED251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327-0F9C-417F-BBFB-F0810F8C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DD8-FEDB-4D98-B9D3-4610CFFF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19403-EB28-4359-8630-EB16A4BF4D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