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6791F3E-8D00-4EA5-9146-A85A6EA4A978}"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EADF04B-449C-4BF5-8B8E-12070925D85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94D8C85-39FD-4485-A252-EA9B1136F2D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CB760D4-CA6D-4017-B3CF-F566CAC6123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601B240-B5D0-47B3-B33B-77249A700DF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ECF160E-4323-4BAC-AEE1-F554E2B8C55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D0130DF-C3A1-418D-ADA3-3FBB050DA9D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153E272-C34C-4E86-91FF-FDFD6D97300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0900313-BD0F-49F0-A9D1-9B48AE915B9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AE1B2FE-F7EF-4862-AD91-C560DBC1C59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11C0F9D-5BA9-4DC7-8939-0CDF9BA84DE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81FD121-F300-4933-8130-7DDF94AEE7C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20C771D-3CB7-4B4D-A59C-2DD49ACD592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0521241-046D-4F05-9E3D-90AA45D98E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3CC691C-DA6B-4BD3-A8BE-8BA9558EBBE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0C4600E-7BB0-4945-8651-4869ABF989E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C309781-CE42-4099-80A1-6B426C08DE3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16511CD-88E8-4A61-A798-3A5E7F80336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D631C48-05E3-41D0-A62A-4D21AA8C9EF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E5C2F32-F5A7-40BB-8BC5-BAD0B672D3B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978081A-2394-445B-B079-1D01A5B4C51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D4B2D23-BEB9-4ECD-BAD1-7ECA9829332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457D35D-EFE6-43BB-B610-DE407A05D4E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B22BB5E-452C-4A8D-A19F-85DFA606E4F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8CD6674-6F0E-41F2-A376-F0002F9FF88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F18F11B-C20B-40CA-8E2A-C163D122023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4C65811-D9FE-45C0-A4DD-8867D158A55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3DF6709-B54C-4E4A-8ED2-02298793480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D78CF1E-ED8F-4682-8144-C3138510EBA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AEDE8ED-E9E3-4BCE-BABE-159FCFB4081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013A576-34DC-4CA5-8FE4-5D0AE4A4305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E853345-876E-4CE7-9116-770B2D177E9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4482F21-ECC1-4CAF-A4D2-4C419E93375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60FE1D3-0F30-4E43-A116-46AFEC3D0C6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DA82E0-2C95-4ED5-8111-98087834CC5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22161-66D4-4D2B-AB2E-5AA957711930}"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5E977-CAED-4353-A109-26D3B6050BFE}"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9137BC7F-530C-4E38-B76A-3EA97C499A4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AB1884C-C771-4B09-AE86-CD34B243A805}"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A5E4370-114B-4FB8-8D87-82BB470CF015}"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C05E234-5EEA-4576-8FBD-A0621481DDD1}"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41AB77A-7BF6-41EC-BF34-FCAFCA9E3AB0}"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762E09B-4D1B-4ECE-8C95-0016C91404BB}"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9C980E3-176B-45CB-8E06-18B242B401F9}"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18FC453-9CA0-49AB-8D6C-74243389231C}"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406E1CC-BE5C-489C-9A70-44A5410F7CBF}"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A6A583E-E3D8-49FB-A940-E691972F9A95}"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997D59C-7FBB-4DCF-9D41-83D5D92B59F9}"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31B0E49-4BC3-4F2E-A9A0-C5B7949D2043}"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CF2F72B-BA90-43E3-ADDC-BCF7AB3502E1}"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C537F74-81A9-4DC7-BD37-B43F20C8DE94}"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4C07F06-576D-4798-9F4A-38F6CFDED1DE}"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C4800DA-1D58-49A5-AA68-DADBC5DB04E0}"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DF79099-5D45-4099-961E-32FCB27F8BC0}"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5AB1235-531D-4DED-AE26-F73C6B34E505}"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A366E6B7-8017-4CAA-B758-53F326321EF6}"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63738568-FC9C-4511-AA88-E03348671431}"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C3EAEF1-09BE-4CBE-86A7-A6533AAA8B54}"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85C7BC2-A5FF-4B7D-B8F1-D9978956157B}"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62906E4-13CE-456D-9FF4-750A59B30399}"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9A5F20D-4602-485D-8FE2-3BFBD342D6E6}"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948E878-C564-4449-9830-275AB2BA11F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D6DCD96-116D-4382-935A-3FE0E6C33508}"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CD19A6F-2013-4E31-97E0-C2F00B51763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B145D41-0F64-47C8-B04A-3DBDDFDF9FA1}"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1934599D-1AA6-4434-9F8E-9793AF46EA4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CD2FCD5-2EF3-42EC-9BDC-6CC70CF6D58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9CB91B5-35EF-4DDB-B2A5-3C2A35D9E19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42CBE9C-1088-4D2B-B7D4-3FF5943350F0}"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57B035E-C6FD-4C5E-9A75-C36C408A341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26A2807-3023-480B-8671-4CE06B237FD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5F3327E-0ECD-4F49-8682-E07169558BF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7C24712-3035-44CE-8A57-AB72E0DC4833}"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2715A72-3FFE-4624-8869-18D0B8F1392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A9FF33A-BA21-44B8-8A56-0F12CFB8BF3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306DC21-435C-4C70-8BD5-0802F983E56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DCCBC11-9DFA-495A-8F53-6B272BD36E03}"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B00A169-C9DB-4357-BF23-27E71E9BC5A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D5990A0-BFC9-496E-AD76-52C08CBB288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87C3A04-B3C3-4448-A2AF-F822271BD7BA}"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5782AB8-17D7-49E0-B156-F9122D1D0CC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34A353D-4426-4154-B4F2-BA2AE110C21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FD7FB6E-CB51-4605-A0D3-CBB87BD5D63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A21243A-7861-474E-AD95-25148981056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2860A56-B6A6-4AB5-80DF-BF2BA980E558}"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19EA02F-A55C-4BA6-BC91-EB002CEE41CC}"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70FA4C7-1C7C-4D48-A15C-28A9CA24FA98}"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26F7D80-E393-4A3F-AB92-CFA58E63FFC1}"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EBBB1A9-75A2-4CF6-AF1E-70E474FA51EF}"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28C632B-9675-4F95-8B86-1B57DE003A8E}"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D01EC00-250C-4AE4-B8B2-10E1E82E3269}"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3F3F54C-46CD-4FBB-B2D8-CFC59D1141B3}"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18326AC-3DCE-42B1-A082-97A9622C69D6}"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AE1AAB5-C069-40AE-BC54-AF2152ED16F2}"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5164348-643B-4E65-B2BA-5FB18A59918B}"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37A7085-DBFE-4907-8E7C-00076D8E82ED}"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1C274FB-B572-490B-8D9B-6A526E322179}"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E4FEE16-504B-4F06-9794-3BEA4C85769E}"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642ED00-0869-423A-9D44-124E4C7F57A3}"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CF50333-287B-4E66-B3D0-A70AB1E215AF}"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BE19A9A-DE28-4A60-87D1-021D34C8AC67}"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9EB3CA2-CBB1-4EDC-B6A6-302B26C543EA}"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03D6021-7E32-4863-893C-DD4BE5323F04}"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AE1FADB-FF18-47F7-8804-CBC668EE8AF0}"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23819F2-6FA3-4F09-88B7-1086E0B4918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FA0EB5C-E722-4AE3-A2AB-AD99C17916B0}"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225EBF8-1DF5-4DF7-9609-A745697DB4E0}"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1C3AB39-CEA5-489C-96C3-5832AD870721}"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7A7FE19-59DD-4434-8A69-F2C8F8A37B24}"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5164D12-4A0F-45B8-A5E1-880C566E3AF9}"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34A1C51-1204-4B21-992D-B6FC6BA77B57}"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070CC40-BED9-4A75-9A27-2D3FF2CA4649}"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BFBA001-0830-475E-AA5E-840959EFE44B}"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D93CF25-14F0-4534-9A42-07F34425F045}"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B41E837-A1A2-4828-A8BA-DC77F62E30A1}"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159841A-CBB7-4B77-ADC9-CB4253E22045}"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8DA33FF-F97C-42EA-ADDA-6D7A71032CDD}"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FA43FB1-7301-4D47-8C7A-B28163371683}"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B057FAD-3F8F-4E9B-B019-5B60C12E860D}"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A5F5254-23B6-4068-A732-494B02356E24}"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32D45C1-EE26-4101-AE52-4ADB1DD5B4CD}"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9A573CD-4E37-46AA-99CC-A13DEB64BA3E}"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3024779-C698-4977-B6BB-0FA88E4628D0}"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AB4B9AA-1FD1-4369-82A0-55199CAAB034}"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EC93860-B9E2-4B7B-858C-498890B844B5}"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07A1519-50EF-42A4-82B5-101869D7FCD0}"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F0CA6A7-C2AB-4B47-919E-97A8BA7CD04D}"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FBA848E-95A2-482B-B49C-C520EEAD2775}"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65E6B45-0293-4FB1-9890-BDAEDB76379C}"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5F77655-922E-4499-8D78-C7EED3ADB32F}"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5B8B6DB-28B5-4D96-893A-5B30C9C1533F}"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26CBA1E-2E10-4E8B-8B53-F9DC15DF7C3C}"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1222539-B310-46F9-BD73-DF211C8E2085}"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2EF9DAA-FEDC-4DCA-A5D2-541DB29FEF92}"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30EFDE9C-4F87-4CAF-AA13-D826C53D2210}"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22C4FB2-5DDA-41DA-ACC5-AC7824428D8D}"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1E8DBBB-D4E7-4197-923C-66111E039687}"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FC43E8B-9354-4060-9A1F-C8BE98102C0F}"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46DA407-83AB-48E1-8800-76C1F1DA7146}"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F7DDD80-407D-4AAA-8B18-B9B97B893668}"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B620635-BAFB-4CA6-91DB-D4FB51C9A348}"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9994250-2D0B-4860-B7F0-B43C1C403A27}"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415BB9E-8D4B-49C5-B58F-CAD3200970CE}"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17E9958-3BB0-48CA-80E0-9DB413995178}"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99881A5-8EB8-4214-B6D3-A3BFC1DBC59D}"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4285E93-2E33-4AE3-951F-C9F8EF0E3926}"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CB2D80FA-E0F9-4D25-857C-68CB4D09C1D4}"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A7DE244-ABFF-4D42-A0D2-A37AB346F39C}"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96943F6-D6C3-4DC9-BB82-5DC745DEF4F7}"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AB967FD-12B2-439B-BBDF-95CC77E1EDD7}"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6B53A52-D1A3-4BA0-8F3C-62C1A59EF602}"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79B613C-A11E-462C-8A7D-CEA2DE6F2EA3}"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6444B68-F329-4908-ACBC-CEA1B3D6B387}"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2F3DC53-DF56-4601-9C04-FDFC3CF86E3F}"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54F9045-E1FC-4E1D-886E-493922D24FF5}"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327FD91-C9C5-49C5-9AB4-13A9E7A25A8B}"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1CBCE27-B29B-4BBF-A4C7-89D61E2A4794}"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359E8C1-FCB6-4D92-9E2E-2D049D80C137}"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