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67489"/>
        <c:axId val="54621769"/>
      </c:barChart>
      <c:catAx>
        <c:axId val="14367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21769"/>
        <c:crosses val="autoZero"/>
        <c:auto val="1"/>
        <c:lblAlgn val="ctr"/>
        <c:lblOffset val="100"/>
        <c:noMultiLvlLbl val="0"/>
      </c:catAx>
      <c:valAx>
        <c:axId val="54621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67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E3D-3EB5-4FDA-B2D5-529FE23C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248-4CE7-423E-9A25-600008B2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CC6-F530-45FC-92D2-1B5B0569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0D2-8FE4-4298-9901-B016CE13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880-41F4-43AF-A9C8-A51EF290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A5C-65D5-4211-87BC-264DABE0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03C-5C57-4BB0-AB81-9FB8A046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444-B342-40CF-AC8E-C2FB1DA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E8C-41A5-4009-9660-854F9A94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EDA-86EB-463A-9690-4FEA40AF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8A1-1F33-42E3-B578-26211E9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4FA-7363-4AC7-AFE9-7B2EDD5D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E5AE0-A5D4-43D1-9299-4127FAFF7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