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91272"/>
        <c:axId val="91317848"/>
      </c:barChart>
      <c:catAx>
        <c:axId val="99991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17848"/>
        <c:crosses val="autoZero"/>
        <c:auto val="1"/>
        <c:lblAlgn val="ctr"/>
        <c:lblOffset val="100"/>
        <c:noMultiLvlLbl val="0"/>
      </c:catAx>
      <c:valAx>
        <c:axId val="91317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91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054-2F5A-489F-866E-270E33ED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E1E-3918-4B62-8D55-55C48256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232-DE87-46F0-BCB8-24560CD6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379-EFCE-4D7D-9A01-8CD17625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4C1-20C4-4DC8-9B6C-9570B5BA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CEB-0A70-4D93-B345-10B573D7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CC7-4A0A-4D71-A253-7308A75A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1DF-2E89-43C7-B296-46CB4F89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68B-C2C1-4FC2-94D7-28015A20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76C-EBB7-4D68-BA24-68405951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5F0-3AAE-4883-BB4B-0376FB5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2E5-00C5-4A75-9654-CC8535A0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4A60D-7B0E-433F-B830-A9E6FB5A2E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