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6806"/>
        <c:axId val="7557831"/>
      </c:barChart>
      <c:catAx>
        <c:axId val="4216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7831"/>
        <c:crosses val="autoZero"/>
        <c:auto val="1"/>
        <c:lblAlgn val="ctr"/>
        <c:lblOffset val="100"/>
        <c:noMultiLvlLbl val="0"/>
      </c:catAx>
      <c:valAx>
        <c:axId val="75578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6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984-E80D-447A-97CB-DDC6B1ED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4C2-074E-4195-BFE4-1AFD208A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DCD-940C-4C62-8642-E97C2301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DBE-47D8-4FFA-B4D1-1E6EED71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E75-5175-4A43-815F-24F0F29F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5FB-8D7F-48FB-90B2-AC1D606C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16F-F7EC-46C8-BEAD-9A85AF35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33B-F87D-47D2-9C77-CCACEB26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8EB5-FA0A-4EDB-A016-91656A86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D68-A048-45F3-9CA8-8F1D52BE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DEE-CC68-45EA-B366-BEF33BAD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646-397F-43B2-B27F-1786717C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07327-82D8-43D8-886D-6C5203A90B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