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91812"/>
        <c:axId val="47790424"/>
      </c:barChart>
      <c:catAx>
        <c:axId val="21091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0424"/>
        <c:crosses val="autoZero"/>
        <c:auto val="1"/>
        <c:lblAlgn val="ctr"/>
        <c:lblOffset val="100"/>
        <c:noMultiLvlLbl val="0"/>
      </c:catAx>
      <c:valAx>
        <c:axId val="47790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1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07B-26F2-4D04-B499-5DCED85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8DB-6B36-4663-B22B-09FA918E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BC2-40B3-469D-B4D9-CDD13DD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804-706E-4AFE-914A-59A42880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9FD-39AF-4408-9DCC-A4462702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4E4-63DE-4FF7-A409-03467B27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47C-4B57-4EB4-9CF6-6E0A06B2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1DA-436F-4FB9-8235-F7B3A38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64F-8CF1-42E9-AD5D-5CC0569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3FE-33AB-4192-9323-C1D5E33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D99-613A-441E-8118-BEA0063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70D-B513-430F-96B3-710A16D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9E22-BA8F-421B-9396-CA6629553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