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33931"/>
        <c:axId val="9302656"/>
      </c:barChart>
      <c:catAx>
        <c:axId val="91233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2656"/>
        <c:crosses val="autoZero"/>
        <c:auto val="1"/>
        <c:lblAlgn val="ctr"/>
        <c:lblOffset val="100"/>
        <c:noMultiLvlLbl val="0"/>
      </c:catAx>
      <c:valAx>
        <c:axId val="9302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33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661-C7A6-4B64-9A99-EF506A4C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4CF-F6D6-40F7-8F88-1CBEFC83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402-6342-4A76-9318-2AA8FC18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5CE-7752-4366-84C6-BC3133B9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745-1E39-46A2-94F8-73102ED8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CAD-4F54-4D2B-95D5-CE78A6E0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85B-0CFA-4247-8F12-4DCBD43B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3E8-5364-4B91-9C75-CE7435BD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EB8-51AB-4EA1-85C0-2D43885D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08A-027B-4A12-9AC3-DA8A697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2E6-3E47-4FAA-A020-1808FA4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E7C-2388-4897-8D99-47223E2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297ED-53BA-4078-9B21-ECA7E901E1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