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2726"/>
        <c:axId val="6971769"/>
      </c:barChart>
      <c:catAx>
        <c:axId val="6262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1769"/>
        <c:crosses val="autoZero"/>
        <c:auto val="1"/>
        <c:lblAlgn val="ctr"/>
        <c:lblOffset val="100"/>
        <c:noMultiLvlLbl val="0"/>
      </c:catAx>
      <c:valAx>
        <c:axId val="6971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2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57A-5675-4FF4-87DA-62599A4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2D4-ACDA-4C31-9736-BEA431D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490-07B9-4F6C-BCDB-A4786149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DE9-D884-4875-964C-C14C7B32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E95-79EA-4BCA-A1E2-49AC99D1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6B4-6FE9-461F-90CA-C7C259B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9AA-CB98-4D5C-A4A2-7FC17EB5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2A3-2B4F-49CA-AB68-6F19939C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0D6-0FFC-4709-B274-6D40BD75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73C-1784-4371-8EB0-E81934D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673-F870-4245-A567-7D80817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E66-C28A-4CD4-936F-5F2AE10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2D40-2D92-45BA-82A8-98530C7ECC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