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792746"/>
        <c:axId val="14862303"/>
      </c:barChart>
      <c:catAx>
        <c:axId val="277927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62303"/>
        <c:crosses val="autoZero"/>
        <c:auto val="1"/>
        <c:lblAlgn val="ctr"/>
        <c:lblOffset val="100"/>
        <c:noMultiLvlLbl val="0"/>
      </c:catAx>
      <c:valAx>
        <c:axId val="148623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7927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C269-AA54-4AAC-876D-20D16014E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89FC-2C49-46A5-B4AD-F4C2666E1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E858-E571-403E-850F-C5FD82F11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BDF0-1EE3-4266-975C-9C7B548B2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B96A-387E-4B87-AB35-16756D660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93E1-1B48-4D6E-8F5C-7D948AE79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A8C6-9C17-4B66-9E9E-01FA4EDB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FABD-8B45-46D8-A89F-7143636E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2678-7C18-4331-86D6-91B016EBC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69ED-B7B3-4F8D-9F16-D84A12AE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EF22-F5A7-410C-9C5A-A088DEFD6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7ECD-F272-406C-B630-652021E7E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C62045-884C-41F4-A4B5-D0320A8CDA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