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73172"/>
        <c:axId val="90087333"/>
      </c:barChart>
      <c:catAx>
        <c:axId val="73973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87333"/>
        <c:crosses val="autoZero"/>
        <c:auto val="1"/>
        <c:lblAlgn val="ctr"/>
        <c:lblOffset val="100"/>
        <c:noMultiLvlLbl val="0"/>
      </c:catAx>
      <c:valAx>
        <c:axId val="90087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73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77B-6FFE-4F64-87D3-A424F95B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73C-ABC3-4942-B561-6CC14216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1D4-0767-459B-A48B-35B20875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FCA-4B15-4BF0-BE94-48E86B13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1B1-2EC6-41C5-86B2-F3C9B00E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5C3-7368-487A-B851-CB333E0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D78-8813-410C-BEAD-71440D00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E8C-B3FD-40D3-9D72-E1501AB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163-6751-4BD8-8698-8A6A9C47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BCA-E274-4646-9E1B-7DC2508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4DB-C967-4C27-917E-E4DA3D7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D1F-2032-4534-829E-DB79F9FA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E6457-C476-495E-BB0A-546641B46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