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05348"/>
        <c:axId val="31205926"/>
      </c:barChart>
      <c:catAx>
        <c:axId val="91705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05926"/>
        <c:crosses val="autoZero"/>
        <c:auto val="1"/>
        <c:lblAlgn val="ctr"/>
        <c:lblOffset val="100"/>
        <c:noMultiLvlLbl val="0"/>
      </c:catAx>
      <c:valAx>
        <c:axId val="31205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05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954-781F-4EEF-83B6-40E4C965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4D4-7D8D-4E09-BFF0-F8EC672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EBD-46FB-4212-9D98-767FB4C9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57E-593B-4D8A-9EEE-A625B1D0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75E-A838-4F45-9174-CC63C60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256-1948-4D58-B207-23F0B7D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BA7-0B4F-4696-9600-22F7C02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E61-1B17-4CAF-B8F7-34EDF6B1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A63-D449-44BA-B95D-6A9B296E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DCF-129B-4101-A0FE-A410DDA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D02-2C0F-4CB2-A2D5-05E5D89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12D-A92D-471B-8DA4-3E51007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BFF5-67B3-4BFD-A2A5-B4DA6804AF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