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883560"/>
        <c:axId val="37328492"/>
      </c:barChart>
      <c:catAx>
        <c:axId val="718835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328492"/>
        <c:crosses val="autoZero"/>
        <c:auto val="1"/>
        <c:lblAlgn val="ctr"/>
        <c:lblOffset val="100"/>
        <c:noMultiLvlLbl val="0"/>
      </c:catAx>
      <c:valAx>
        <c:axId val="373284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8835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A26E-3466-44D4-9915-2DE7503A2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D616-4649-41F8-AED0-A981F350A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AE69-5F5A-4CFA-BE2E-874637129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7105-94E6-4D23-8107-82523B01D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93F5-FC27-43AD-A8EF-29365349B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1577-D355-4923-8DD8-3EB248373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9471-E749-4176-A877-97D6CE347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FDF7-E8AA-4824-AFE5-27DAEAC89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682E-D1ED-4B6F-BA5B-F9C8F64FA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11E4-AA3A-4F8D-A03D-ABBCA6B3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A59F-4C72-4671-812C-D8D97F78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C9CA-4C99-4E78-A845-B0CACD3D1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ECB076-345F-4A60-85F4-70333624A4E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