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92327"/>
        <c:axId val="86292783"/>
      </c:barChart>
      <c:catAx>
        <c:axId val="10892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92783"/>
        <c:crosses val="autoZero"/>
        <c:auto val="1"/>
        <c:lblAlgn val="ctr"/>
        <c:lblOffset val="100"/>
        <c:noMultiLvlLbl val="0"/>
      </c:catAx>
      <c:valAx>
        <c:axId val="86292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92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456-AA51-4453-A027-8C1F7884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9F2-EB30-485D-9062-9D36464E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2A9-00F4-4122-A545-70B07836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11C-141B-41C8-8DE1-DA9969AC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965-1008-475D-89E2-341648F1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3C4-145B-401D-A5ED-F255CD97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2D8-EB20-4C3C-A3D1-B2939906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E18-A4B6-4D32-AD73-50C7E30C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0CB-C575-4C88-866C-F3E71CF1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4C9-7EA4-4974-93AD-9DCC0D7D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405-DE99-4FB1-8FE5-AC40DB8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334-80EE-4A3B-BAD1-C5F1224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D01D7-A003-4EBC-8C44-CA01C62F77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