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17809"/>
        <c:axId val="70404628"/>
      </c:barChart>
      <c:catAx>
        <c:axId val="5931780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404628"/>
        <c:crosses val="autoZero"/>
        <c:auto val="1"/>
        <c:lblAlgn val="ctr"/>
        <c:lblOffset val="100"/>
        <c:noMultiLvlLbl val="0"/>
      </c:catAx>
      <c:valAx>
        <c:axId val="704046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1780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8FE-971C-438E-A6ED-37F820D37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9E1-79EF-4D47-B163-1BA608B7A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FAD5-C7CE-4404-B342-61FECABE1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ADD6-896D-471B-A609-12DF1A04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BC33-293B-4792-BD4F-CE0F560F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4782-7695-4C77-986C-236F36E5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BE1-7101-4117-ADA1-9FC485B9F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62A9-A44D-438B-94B9-78810F5D9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5B59-4171-44BE-B1A1-C25F2EBE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92AB-3500-4D82-9038-43CE59FF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DDC7-062E-47BC-B5F3-4F1DCD4E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69EA-A71B-4392-879C-4F85AE54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63C44-AFBC-44A9-966D-5E92E436F80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