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44182"/>
        <c:axId val="38501756"/>
      </c:barChart>
      <c:catAx>
        <c:axId val="89944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01756"/>
        <c:crosses val="autoZero"/>
        <c:auto val="1"/>
        <c:lblAlgn val="ctr"/>
        <c:lblOffset val="100"/>
        <c:noMultiLvlLbl val="0"/>
      </c:catAx>
      <c:valAx>
        <c:axId val="38501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44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D3D-FED8-4793-8100-27ACD032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A7B-0E15-4411-8C75-E6CBB16F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635-3951-48A0-80DB-A0997CEE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4A4-78F9-440F-BA75-EA831D9F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257-E92C-4FF6-B310-D7C32D88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576-999A-4119-8EFA-A12FD7B1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080-2E7E-4F02-B570-8C99F35A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78C-4A5C-42F0-AB02-0859675C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EEE-EA33-4D00-AB0E-72435911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896-D52C-4A55-99B2-C043A8C4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1A2-8D07-497F-A79D-9AFB1E3B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333-5AF6-4E64-88B0-EA99C87E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C894C-BEC6-46CF-AD21-635A47781F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