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2E49-FFD9-4001-B9ED-BE2DD9217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E0A2-54E9-4BAF-92FA-AAFB24D28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2E0479-01E8-4E94-97E6-D51FDCF9F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2286CF-EEE5-4F3B-98CA-577A33ECB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BE5436-F1B3-499A-AABC-22B874C99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2EF0FD-EBD7-49E8-AF3A-0BF9D1125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CC3253-794F-43B3-A9D5-E4D3C7BD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29A307-29B9-486C-BFCB-FC7BB93D6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4BDE86-C6BC-4032-A1EE-57A87CF51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5524E2-926F-43E1-933D-18AEDC37D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328165-7151-4250-BE5A-42092AB33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1BDA71D-0E80-4C98-85D4-E9355C989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874E-6A4E-41D9-821A-A8FEEA3A6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1A26237-5831-4A17-9670-F6817779E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C4C6F9F-2E67-4E09-B521-954E00AE1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FA66BC0-D770-47AD-B2F6-9BDDB3D1E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8E216B6-2B56-45ED-9A01-33B4A3B29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6F0B3F4-FE79-4478-ACA0-A6D98015E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9A63F92-B355-4E77-9EA9-B3ABD20D5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4AEDE44-30B2-45DA-A81E-021263D5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F6869C3-7092-45F2-9D3E-B42B4C718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F0D265D-2DBC-47A6-8EA6-2D676117A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B01B999-2974-4D34-9B56-28DD1993D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612A-01E1-4077-AA11-7228E6B58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DB3D2D0-63AB-455E-8F0C-E19DF5302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887FEB-3F2E-482D-A524-0C51B67D8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5F546F-C64A-40D2-8177-36E0955B4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39F436-DC72-481F-B821-2C8CCD494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C477B1-F73C-493F-A70C-4716F58BC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FD6E5C-DFC0-48DA-8769-FD356C841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7BAD0A-C3D5-4908-BA31-01B2A588B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E442F9-BBFC-46CB-B373-9F5B305E2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78A211-1CDD-4A1C-A20A-74B272CC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552B9F-C63B-4273-A6C3-97FAA3AB8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97199-DB9E-438C-BFD9-2F30A35BD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B5ADCE-481D-45DB-AA32-8CB1F750E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51DA65-2088-4C02-A1C0-4A2F83514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45A8F9-F616-4D15-94B0-DD55229F7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7F2EDC-4DE8-4945-A73A-64A99F5E3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2B7877-7ACA-44E4-B5FE-2AB672557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03C5CC-A879-4D85-9F9C-928509B30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71C48C-E994-4E87-BD7E-54F621953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C9CB84-D9C7-4ECE-925D-B72D5EF32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35086D-FF9F-42E5-8481-EE1024020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E80BD5-7221-45CF-AEE4-56FEE103D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1CB50-FB45-4127-98F3-FB75D72FD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FB751B-70AF-41CA-B06D-CA990D8E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332546-9D4D-4858-A064-56913F96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F15B07-8B9E-4FF8-8886-92E0A6877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78454D-597E-44DC-9569-451FBDD24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998E4E-1B57-4D2F-BED5-9CE28D00C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19092-CC15-41D9-9471-705D5B120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F0254-C7E5-4CC7-AF6A-E460CE7BA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E9FD1-4426-4B92-9DBE-FC3AC95BC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D1C7E-ADD2-433C-87BC-DD194C3E7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C331B-DA59-46ED-B288-A4FB05FE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4B92-D626-456F-8356-D06887FED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51A93-B1BE-4224-AC52-AA948ED3A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896AF-2F73-4058-A047-2EA9BDE82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AFE8A-ECDD-4274-A31D-2130406E5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727E1-38F3-40A8-A6DF-4191E0B79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0ED4E-484C-4B68-AF1D-0B16B55BD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7A479-7367-4E3F-BB66-58D8D32A6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BEE18-C294-48E2-BE96-D0D57912F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61216-344D-4545-A08F-6DC65CB1D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CED0F-EC55-4049-9F12-F43E48A43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D6A7B-7B53-41D0-887D-B8E714F07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F6FA-11A1-46ED-B667-0EE7EE62F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93390-1BF3-4D57-B00F-D6613369F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C71F8-7789-448B-B144-1F3CEF9E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CD19D-4D43-45DF-AAF8-CA8B0894B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E2340-4A15-4B72-A667-F2373E96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3418B-C2C8-4F97-B507-0FCC31B46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EAC5F-C8F6-46CC-8F11-B550C139A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7584F-0E29-4456-B801-22777F27E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974E6-1026-41F2-8BA2-35A13A400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F3421-77BC-405D-AC87-4E11B86E5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B8898-B3F8-4641-B945-F3462A203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91E3-1206-428A-BF8D-35F02EE33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76A11-7EE4-4FA0-9E6F-4ABD2E228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BDD07-A516-4963-BA36-D88618C4C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202D3-F277-4CCD-8263-3488ACF80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8CDAB-419F-4362-A691-D5A934DEF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C6EA4-5768-4C96-9247-4EB59BAD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DF5B6-6D22-4B59-9771-8735082C7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2DB70-7B56-4D78-B59C-95B98333D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50D05-662A-400F-BCD5-736436E53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18498-1449-4BDD-8EA7-9FFE81FBE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7BC71C-0930-4301-BF32-086ED1E24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6D26-7B8F-481A-9081-9FA7703FF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821EFB-285E-448A-9974-2E6A7F994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89DC1A-6221-419F-BB68-E3BA0E61A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1A59DD-8F9C-4843-BFFC-8860DCFE3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969A97-44A6-447A-A347-D61CDAEB1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6C5041-0C7A-4909-9B19-FC94E0202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C1ACE8-F2FE-4E51-8368-A0CBA55B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8880FC-956A-4226-961F-349EC24D6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8B6A76-A88F-4F11-B769-02D5463B8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A1F51F-4E9F-4986-B58D-0429505D3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CEFC99-B75E-44F4-9B6A-261671303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F676-6EC2-4059-ADE5-AE6DC00BD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9FBF67-D4D1-454B-A612-6A4BED615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58334A-A4CF-489E-8828-D69AFA033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7DA2D-BEDD-4ECF-A0BD-14C730409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538182-1E90-4179-984C-F0EF4B545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6646F2-C232-491D-893E-4A8A58A20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C18930-180D-413D-9E97-353CDDC10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EAB8BA-F56E-4267-A0F4-713DF5E8D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BEA402-FD13-4E66-A150-ECB16EC2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E9891D-EF3E-4173-8FCC-D4EDF7FA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9B48BA-662F-4CE2-AD9C-1CA7F2E7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6EDB-24C1-4822-BD91-3FFB67D68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074DA5-DC4A-43A2-9856-F59CA8BA7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8A86A7-A5BC-4F14-B298-62EAADD2C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1D12E6-492F-4A7A-B288-BC1DB7117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F20075-3928-4432-870A-9EC7159D4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B806BA-98FA-468E-B101-AB922CF25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4636B8-96C7-45F7-87A0-7C2C0A5C3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1CEC11-24DE-4214-81A6-EA4F88FB3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24CFED-BDFD-408B-87A9-811AC3425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9D5B7B-0998-4A4E-9259-C7E5DAB51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6A8F07-8916-423E-BFC0-16219ED7C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278D-19C4-4026-B32C-B7BB188DB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4E6609-DD68-45AD-9A03-8198C906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E423DB-CFCB-4BBE-A4B3-42CEC4C0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19FCE1-D078-42BF-B1AD-B42ECD592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4E4BB9-13BF-4375-9470-CD14810F2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34631F-3E45-4BD2-9C83-0A84144D5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650F05-B39E-4E95-AAF1-A8E079F90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31B811-6FA2-489F-9B3C-228C92DEE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3F4476-F894-462D-A167-1280A17F6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377073-3F63-4258-A7A4-25B745385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2DA592-409B-4309-A37C-67F1AB945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AE40-C0F6-4A89-B3BB-A0FA4B1D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A1D84E-14A8-4FF6-B8D5-FB2271FDD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231D0E-9101-4BA0-8FC4-7E59C808A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342751-5516-41AB-AF5F-3FAFC012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9EFACD-6A60-4417-ABE6-796569618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99E846-F617-403A-8418-0086F5504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94E258-6C72-488F-BAF0-B4A8471C2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0DA630-C705-4743-B78C-0C2436ED0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A65DE8-3842-4D20-ACFF-E58015ECC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1C9BC4-C930-4552-976D-0B08CE59D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99AE8C-B77E-4DFE-8FAA-BFD81EF81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433BA-C7A4-4D68-B79F-D6B24080D8FA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972F7-B6A6-491B-84C6-C689176B0B4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843BA-F83E-4D21-AA96-0AAA4C1C2D9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52DB1-0DD6-4FC9-9F21-86064C8BD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196B4-3D70-4AC9-8868-1D15E3D6885F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8E3BE-1E01-4D74-A63D-5D81C0045F4F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980C0-83FE-47C8-A68F-ECFBE7E43680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62654-1134-4901-8ABF-DDF0F7A9330C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ECD85-8358-4834-8E8E-36503C5DA000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06DA6-BC16-432B-8AC8-C6F5C65826C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8BD2B-344A-4079-B4A9-399AFCCB259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8B826-D877-4E72-BB03-164503451C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EBF43-2B06-4E4A-AA09-4668411EB70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AB64D-09A2-4F27-8A7C-26B92D7DDC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BECFC-41E9-469C-80BE-92867A83250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ED134-F1F5-4D12-BD77-B42E0C768A63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48264-F279-40B8-81B4-00F0A2F3651D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FAEBA-0E55-4567-B6B7-8F21AD07CED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DA44B-1E34-4389-A40D-DC775AFF9E23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E7435-9183-4193-905B-1332FD7CF1C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8AB41-A6F9-46FA-85ED-3CE0C0CC6725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A2307-EDA2-4225-87AA-1A14F8FAEBC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4CC08-8471-4CC1-B0AC-C22E247DF25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D6D8B-45CD-4AB5-A92C-95E932EBD9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22DE-2117-4DF5-A935-6781C1E4BDE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B0B465-027C-4147-887C-7F54F6F2D3A9}" type="datetime1">
              <a:rPr lang="en-US"/>
              <a:t>07/28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1588FF-07BE-458F-99AB-65762828464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9A9F556D-77FA-4468-976C-6D04F1EC5852}" type="datetime1">
              <a:rPr lang="en-US"/>
              <a:t>07/28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strips(upLeft)" transition="out">
                                      <p:cBhvr additive="repl">
                                        <p:cTn id="113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0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6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2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" dur="15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5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314D2-9681-4618-B9EB-F39553C9ADD4}" type="slidenum">
              <a:t>3</a:t>
            </a:fld>
          </a:p>
        </p:txBody>
      </p:sp>
    </p:spTree>
  </p:cSld>
  <p:transition>
    <p:comb dir="horz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0"/>
                            </p:stCondLst>
                            <p:childTnLst>
                              <p:par>
                                <p:cTn id="1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A6705B-03A1-495E-B3CF-ADF26765EE2D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6195E879-696F-4EFC-B65E-670F3E7B7490}" type="datetime1">
              <a:rPr lang="en-US"/>
              <a:t>07/28/26</a:t>
            </a:fld>
          </a:p>
        </p:txBody>
      </p:sp>
    </p:spTree>
  </p:cSld>
  <p:transition>
    <p:wedg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6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000"/>
                            </p:stCondLst>
                            <p:childTnLst>
                              <p:par>
                                <p:cTn id="2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8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8000"/>
                            </p:stCondLst>
                            <p:childTnLst>
                              <p:par>
                                <p:cTn id="2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7522DE-5593-4C31-9983-5CFD9B57B6B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ECA43244-113B-458E-9385-181B1B6E1502}" type="datetime1">
              <a:rPr lang="en-US"/>
              <a:t>07/28/26</a:t>
            </a:fld>
          </a:p>
        </p:txBody>
      </p:sp>
    </p:spTree>
  </p:cSld>
  <p:transition>
    <p:wipe dir="d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3000"/>
                            </p:stCondLst>
                            <p:childTnLst>
                              <p:par>
                                <p:cTn id="27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4000"/>
                            </p:stCondLst>
                            <p:childTnLst>
                              <p:par>
                                <p:cTn id="28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0"/>
                            </p:stCondLst>
                            <p:childTnLst>
                              <p:par>
                                <p:cTn id="29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6000"/>
                            </p:stCondLst>
                            <p:childTnLst>
                              <p:par>
                                <p:cTn id="29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7000"/>
                            </p:stCondLst>
                            <p:childTnLst>
                              <p:par>
                                <p:cTn id="30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8000"/>
                            </p:stCondLst>
                            <p:childTnLst>
                              <p:par>
                                <p:cTn id="31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9000"/>
                            </p:stCondLst>
                            <p:childTnLst>
                              <p:par>
                                <p:cTn id="3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7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2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0F8AEE-C63E-412E-8DAA-5501216EB65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9C0AF5D3-0CFD-4E22-AA21-889D47C1FFB3}" type="datetime1">
              <a:rPr lang="en-US"/>
              <a:t>07/28/26</a:t>
            </a:fld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2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3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1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2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