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78833"/>
        <c:axId val="41953556"/>
      </c:barChart>
      <c:catAx>
        <c:axId val="58578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53556"/>
        <c:crosses val="autoZero"/>
        <c:auto val="1"/>
        <c:lblAlgn val="ctr"/>
        <c:lblOffset val="100"/>
        <c:noMultiLvlLbl val="0"/>
      </c:catAx>
      <c:valAx>
        <c:axId val="41953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78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4E3-985E-4A56-86AC-66171F4B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72F-F3F9-4DF9-946D-DD04CA60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9C4-ADDB-481C-BA2C-66114AD4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528-D320-474A-8998-9A12F8A3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463-A3F6-4FF8-A163-7F7DA8D7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156-CFEF-4187-BC02-F01E4F01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7E3-F9DF-4C38-AD19-4A56F361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285-9545-4145-996B-B74E7526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0FEA-1010-4CB0-B204-E1DD9DAD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5C7-37F0-41A3-828B-C744288D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A0E-77D6-4636-AD61-4F315D44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5A0-3D50-44EE-A9E2-F504B71B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C98DB-250B-43B8-951D-CAC56E0EBA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